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22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baidoo, Robert  (IITA)" initials="AR (" lastIdx="9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2-01-09T08:13:30.711000000" idx="4">
    <p:pos x="2488" y="2136"/>
    <p:text>ambigious? improved food secirity strategies??</p:text>
  </p:cm>
</p:cmLst>
</file>

<file path=ppt/comments/comment14.xml><?xml version="1.0" encoding="utf-8"?>
<p:cmLst xmlns:p="http://schemas.openxmlformats.org/presentationml/2006/main">
  <p:cm authorId="0" dt="2012-01-09T08:15:19.776000000" idx="5">
    <p:pos x="656" y="2464"/>
    <p:text>insert 'and prioritize'</p:text>
  </p:cm>
</p:cmLst>
</file>

<file path=ppt/comments/comment15.xml><?xml version="1.0" encoding="utf-8"?>
<p:cmLst xmlns:p="http://schemas.openxmlformats.org/presentationml/2006/main">
  <p:cm authorId="0" dt="2012-01-09T08:16:02.119000000" idx="6">
    <p:pos x="584" y="1416"/>
    <p:text>can we do this?</p:text>
  </p:cm>
</p:cmLst>
</file>

<file path=ppt/comments/comment17.xml><?xml version="1.0" encoding="utf-8"?>
<p:cmLst xmlns:p="http://schemas.openxmlformats.org/presentationml/2006/main">
  <p:cm authorId="0" dt="2012-01-09T08:18:58.618000000" idx="7">
    <p:pos x="5040" y="3248"/>
    <p:text>many other nutrients are equally limiting</p:text>
  </p:cm>
</p:cmLst>
</file>

<file path=ppt/comments/comment2.xml><?xml version="1.0" encoding="utf-8"?>
<p:cmLst xmlns:p="http://schemas.openxmlformats.org/presentationml/2006/main">
  <p:cm authorId="0" dt="2012-01-09T08:00:16.812000000" idx="1">
    <p:pos x="10" y="10"/>
    <p:text/>
  </p:cm>
</p:cmLst>
</file>

<file path=ppt/comments/comment22.xml><?xml version="1.0" encoding="utf-8"?>
<p:cmLst xmlns:p="http://schemas.openxmlformats.org/presentationml/2006/main">
  <p:cm authorId="0" dt="2012-01-09T08:21:06.171000000" idx="8">
    <p:pos x="3484" y="1031"/>
    <p:text>Add KNUST for Capacity building</p:text>
  </p:cm>
  <p:cm authorId="0" dt="2012-01-09T08:21:47.270000000" idx="9">
    <p:pos x="3569" y="1841"/>
    <p:text>Add N2Africa</p:text>
  </p:cm>
</p:cmLst>
</file>

<file path=ppt/comments/comment3.xml><?xml version="1.0" encoding="utf-8"?>
<p:cmLst xmlns:p="http://schemas.openxmlformats.org/presentationml/2006/main">
  <p:cm authorId="0" dt="2012-01-09T08:03:01.955000000" idx="2">
    <p:pos x="5337" y="340"/>
    <p:text>production systems</p:text>
  </p:cm>
</p:cmLst>
</file>

<file path=ppt/comments/comment9.xml><?xml version="1.0" encoding="utf-8"?>
<p:cmLst xmlns:p="http://schemas.openxmlformats.org/presentationml/2006/main">
  <p:cm authorId="0" dt="2012-01-09T08:07:56.815000000" idx="3">
    <p:pos x="5122" y="3151"/>
    <p:text>What does this mean? why not llimited sustained capacity building programmes in agricultural technologies and associated manpower needs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D898-C506-4347-8E24-49A95D805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BB191-CEE1-4905-AE02-035F26837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20EC-7511-462C-93E7-57CB14B8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2B762-FA71-4755-8FDC-240BB261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3160C-F8D5-42B9-B87B-5C2A5CD27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CDF-44A3-4BF5-9AF0-B5BC8CF9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824-2D7B-455A-B524-7F177E79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594-CFEA-4540-980B-E0B23CDE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D54-AFC8-4326-ADE1-3C4D310D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5EA-EF6B-4A09-AC9A-52F70783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BF4-5638-491D-9A39-4DD64971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DF3-3C15-4CA1-A49A-4EF65E8A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210-AE0C-4F8F-9201-1D7ED286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DED-D8FA-4091-9034-A9885084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C7E-141B-4FD8-9D07-F96D89E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9BC-BD81-4937-8BCB-6EA13A7A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65A-CEA5-4B30-BF5B-9FF5CAA6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27D5-0097-44B6-8819-4C0DB433A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 of Cereal-Legume Farming Systems in the Sudano-Saheli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Y K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Agronom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TA-K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Objectiv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ductivity of maize-legume and crop/tree/livestock systems in the Sud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nd strengthen partnerships for implementing sustainable initiatives in the maize-legume systems of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and, water, and natural resource management for increased systems produ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improve the adoption of productive and resilient agronomic practices and local innovation systems for system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ural incomes through improved market linkages for rura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nutritional status of populations improved through increased nutritional awareness interventions and promotion of dietary d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Region- Karaga, Cheroponi, and  Tolon-Kumbu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West Region-Kassena-Nankana and Bawku 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East Region-Wa East and Nadow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districts  and communities to participate in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potential IP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agree modalities, procedures, responsibilities, tasks and interaction among I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take community and livelihood analysis to identify and priortize constraints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IP activities and review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raining needs  of project stakeholders and conduct training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raduate training for members of research institutions participating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 impacts of soil and water conservation strategies on system productivity compared to traditional cultural pract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ss the performance of tree crops with fertilizer rations, fodder and fruit  tr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 information on soil health and the key tree crops for food security and CDM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knowledge and options for growth resources sharing between annual and perennial components in agroforestry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potential of surface and groundwater pump irrigation for dry season farming and supplemental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actual and potential spatial spread of pump irrigation practices along major rivers in the three Northern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ptions of land use changes and land management practices which would prevent land degrad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pproaches and technologies needed to improve rainwater harvesting 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evaluate models for conducting water balance estimates at watershed scales in study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potential increases in crop yields attainable through improved rainwater harvesting and supplemental 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best varieties of soybean for high N2-fixation capacity and adaptation to abiotic and biotic stresses (pests and dise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best-fit agronomic practices for maximizing potential benefits of legume and inoculant technologies on increasing and stabilizing produ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contributions of improved legume varieties to best-fit agronomic practices, system productivity and farm livelihood with specific attention to trade-off analysis between competing agricultural enter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ing of improved crop varieties to mitigate farmer identified producti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uct on-station and on-farm trials across agro-ecologies to identify high-yielding, drought, pest and disease tolerant maize and legum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varietal performance data to facilitate variety registration an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functional community based seed production schemes and link to seed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promote improved crop management practices that optimize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hosphorous application rate and starter N application to soybeans, groundnuts and cow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crop diversification to arrest environmental degradation including declining soil fertility and increased Striga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PM technologies for pest management in 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quantify the contribution of legumes to improve the productivity and profitability of farming systems across different agro-ec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ation of simulation models for growth and yield of maize, cowpea, and soybean cultivars under simulated changing climate sce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 more feed through identification of food-feed varieties of major cro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 tillage and biomass management options; develop smart combination of cereal and legumes residues for improved animal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options for moving feed temporarily and spatially through promotion of fodder trade, improved storage to reduce dry season sca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develop with farmers livestock management options that optimize nutrient cycling and draught animal power input to cropping and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and promote the most productive and nutritious vegetable varieties to boost their production and optimize their unique nutritiv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and promote options for the resilient production of vegetable cro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pt with farmers available crop, soil and pest management technologies to boost current vegetabl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Regions of Ghana are characterized by small land holdings of low input-outpu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ersely impact food security in terms of availability, access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ops in the Ghana savannas are often produced in production systems in which soil natural resources are steadily de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maize and grain legume sub-sector surveys to Identify market and investment opportunities to promote production, processing and marketing of maize and grain legumes in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strategy to develop maize and grain legume value chain in norther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y out participatory value chain analysis to identify constraints, needs, and solutions to vegetable market chain in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existing vegetable postharvest technologies and potential for small scal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traditional foods and explore ways of modifying food preparation practices to optimize retention of nutrients and improve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local food systems and investigate traditional food technologies and improve food preservation and distribution by local entrepren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evidence-based dietary strategies with locally-adapted options and analyze their acceptability and effect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posed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: IITA, IWMI, ILRI, AVRDC,, SARI, KN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 in Gh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d compan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ybean processo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A funded projects in northern Gh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ARA fertilizer comp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Serve, Tamale Implement Factory Ltd,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K&amp;A oil mill, ADVANCE (USAID projec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 Nuts oil mill and their out growers project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anna Farmers Marketing Company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ptions for scaling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ology dissemination approach of this project is based upon a series of proven developmental models including group training in technology extension, Participatory Research and Development, community-based outreach through farmer collective action, and the support for agricultural value chai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Platforms that include broad partnership involving researchers, extension system, marketers,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GIS tools, modelling to scale-out workable technologies to broader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to community seed production and linkage with seed companies to enhance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ing soil organic matter cont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populations of chronic parasitic weeds (eg. Striga spp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soil biological d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 risk of erosion, and annual nutrient lo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on-farm maize yields (1-2t/ha) are well below on-station yields (6-8t/h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6629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5040" y="3230640"/>
            <a:ext cx="31921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sorg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54320" y="6029280"/>
            <a:ext cx="281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21400" y="571500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380880" y="1371600"/>
            <a:ext cx="8077320" cy="5105520"/>
            <a:chOff x="380880" y="1371600"/>
            <a:chExt cx="8077320" cy="5105520"/>
          </a:xfrm>
        </p:grpSpPr>
        <p:pic>
          <p:nvPicPr>
            <p:cNvPr id="60" name="Picture 9" descr="my picture0120"/>
            <p:cNvPicPr/>
            <p:nvPr/>
          </p:nvPicPr>
          <p:blipFill>
            <a:blip r:embed="rId1"/>
            <a:stretch/>
          </p:blipFill>
          <p:spPr>
            <a:xfrm>
              <a:off x="380880" y="13716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2" descr="0006"/>
            <p:cNvPicPr/>
            <p:nvPr/>
          </p:nvPicPr>
          <p:blipFill>
            <a:blip r:embed="rId2"/>
            <a:stretch/>
          </p:blipFill>
          <p:spPr>
            <a:xfrm>
              <a:off x="380880" y="38862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8" descr="0231"/>
            <p:cNvPicPr/>
            <p:nvPr/>
          </p:nvPicPr>
          <p:blipFill>
            <a:blip r:embed="rId3"/>
            <a:stretch/>
          </p:blipFill>
          <p:spPr>
            <a:xfrm>
              <a:off x="4267080" y="3886200"/>
              <a:ext cx="41911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my picture0105"/>
            <p:cNvPicPr/>
            <p:nvPr/>
          </p:nvPicPr>
          <p:blipFill>
            <a:blip r:embed="rId4"/>
            <a:stretch/>
          </p:blipFill>
          <p:spPr>
            <a:xfrm>
              <a:off x="4267080" y="1371600"/>
              <a:ext cx="419112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4"/>
          <p:cNvSpPr/>
          <p:nvPr/>
        </p:nvSpPr>
        <p:spPr>
          <a:xfrm>
            <a:off x="4782240" y="3211560"/>
            <a:ext cx="255636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Highlights of biophysic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100_0076"/>
          <p:cNvPicPr/>
          <p:nvPr/>
        </p:nvPicPr>
        <p:blipFill>
          <a:blip r:embed="rId1"/>
          <a:stretch/>
        </p:blipFill>
        <p:spPr>
          <a:xfrm>
            <a:off x="380880" y="1371600"/>
            <a:ext cx="43531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SC05086"/>
          <p:cNvPicPr/>
          <p:nvPr/>
        </p:nvPicPr>
        <p:blipFill>
          <a:blip r:embed="rId2"/>
          <a:stretch/>
        </p:blipFill>
        <p:spPr>
          <a:xfrm>
            <a:off x="4724280" y="13716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IMG_4039"/>
          <p:cNvPicPr/>
          <p:nvPr/>
        </p:nvPicPr>
        <p:blipFill>
          <a:blip r:embed="rId1"/>
          <a:stretch/>
        </p:blipFill>
        <p:spPr>
          <a:xfrm>
            <a:off x="4495680" y="12952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MG_4044"/>
          <p:cNvPicPr/>
          <p:nvPr/>
        </p:nvPicPr>
        <p:blipFill>
          <a:blip r:embed="rId2"/>
          <a:stretch/>
        </p:blipFill>
        <p:spPr>
          <a:xfrm>
            <a:off x="304920" y="3886200"/>
            <a:ext cx="418464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4796640" y="3162240"/>
            <a:ext cx="31813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ectr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54320" y="590868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DSC01430"/>
          <p:cNvPicPr/>
          <p:nvPr/>
        </p:nvPicPr>
        <p:blipFill>
          <a:blip r:embed="rId3"/>
          <a:stretch/>
        </p:blipFill>
        <p:spPr>
          <a:xfrm>
            <a:off x="316080" y="1295280"/>
            <a:ext cx="417960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DSC00903"/>
          <p:cNvPicPr/>
          <p:nvPr/>
        </p:nvPicPr>
        <p:blipFill>
          <a:blip r:embed="rId4"/>
          <a:stretch/>
        </p:blipFill>
        <p:spPr>
          <a:xfrm>
            <a:off x="4491000" y="3886200"/>
            <a:ext cx="427212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9"/>
          <p:cNvSpPr/>
          <p:nvPr/>
        </p:nvSpPr>
        <p:spPr>
          <a:xfrm>
            <a:off x="4781880" y="5830920"/>
            <a:ext cx="308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57200" y="3200400"/>
            <a:ext cx="34290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soy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343080" y="1447920"/>
            <a:ext cx="8304840" cy="4952520"/>
            <a:chOff x="343080" y="1447920"/>
            <a:chExt cx="8304840" cy="4952520"/>
          </a:xfrm>
        </p:grpSpPr>
        <p:sp>
          <p:nvSpPr>
            <p:cNvPr id="80" name="Rectangle 8"/>
            <p:cNvSpPr/>
            <p:nvPr/>
          </p:nvSpPr>
          <p:spPr>
            <a:xfrm>
              <a:off x="343080" y="1447920"/>
              <a:ext cx="8304840" cy="4952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9"/>
            <p:cNvGraphicFramePr/>
            <p:nvPr/>
          </p:nvGraphicFramePr>
          <p:xfrm>
            <a:off x="733680" y="1609920"/>
            <a:ext cx="7523280" cy="462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3680" y="1609920"/>
                      <a:ext cx="7523280" cy="462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Text Box 7"/>
          <p:cNvSpPr/>
          <p:nvPr/>
        </p:nvSpPr>
        <p:spPr>
          <a:xfrm>
            <a:off x="689400" y="5410080"/>
            <a:ext cx="25902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verty profile also depicts the three northern regions as the most poverty stricken and hunger spots i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inequalities are also apparent in these regions where women have less access to resources and capacity to generat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development in marketing and transport, access to social services, such as education and health are poor in the three northern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ers of Food insecurity in northern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atic rainfall distribution and recurrent drou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s and crop failures leading to poor yiel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ost-harvest los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mproved storage structures and market for farm produ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ccess to productive resources such as land, irrigable land, labou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ccess to improved livestock breeds and crop varie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water for dry season irrigated agri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human resource for development and transfer of agricultural technolog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47:50Z</dcterms:created>
  <dc:creator>Kamara</dc:creator>
  <dc:description/>
  <dc:language>en-US</dc:language>
  <cp:lastModifiedBy>PBallantyne</cp:lastModifiedBy>
  <dcterms:modified xsi:type="dcterms:W3CDTF">2012-01-10T07:19:47Z</dcterms:modified>
  <cp:revision>25</cp:revision>
  <dc:subject/>
  <dc:title>Sustainable Intensification of Cereal-Legume Farming Systems in the Sudan Savanna Zone of Ghana</dc:title>
</cp:coreProperties>
</file>